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7.png" ContentType="image/png"/>
  <Override PartName="/ppt/media/image3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8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1.jpeg" ContentType="image/jpeg"/>
  <Override PartName="/ppt/media/image42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1.jpeg" ContentType="image/jpeg"/>
  <Override PartName="/ppt/media/image10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E204-2DE9-434F-8FB9-02CEA536F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3D4C-5211-4349-ACB5-EAAAE0862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256B-27A3-4F03-B482-60AB78D59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1C75-06E8-47D3-A807-159738CE2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48C2-2757-4561-B543-4EC39168E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6989-6031-43D4-A1E3-9129C8696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E747-086F-4C0F-B9D1-D0CD101E0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DF5A-4A57-42E4-A137-374B48990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AD65-54A1-44B1-9695-5CBE2CD54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3554-556B-47C8-8F0C-1FDE23D1B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12BC-23AF-4A7D-883B-02646F873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12DB-B580-4A63-8123-5B06BAC6D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78A9-A3F9-4504-96F1-5F5B59BB1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5802-0D16-42DC-A8D4-99AB4FED7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EF23-6626-485D-93F5-997C4C426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B9B4-231F-4DA8-8EC7-71A7B10F1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6A6E-8A1D-47EE-A538-509CFAA7E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B2DB-B431-4083-A604-93A674628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87F4-0982-4373-B0A9-D85529625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EAD-C981-4227-919A-40B63B5A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CE9D-003E-480B-9160-42FACD16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856-8D1A-4787-9CA4-4590F376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BCC-F956-45F3-BDD8-5FEF4306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49A5-493D-475D-95DC-77411770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A9A-5229-49AB-97FF-372F0A67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577-1D02-4A50-86B1-1ABCE8D7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1F0-A3F0-4675-A220-24138572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9F79-C3C9-4770-9E4D-F3AA089C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CD9-89A6-4A06-8BB8-0D6A7D1E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16C-2746-4E12-A266-3D17BEAE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B7C0-2496-4293-9DB9-4D31012F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9B08-4AC2-4961-B554-44C481743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297000" y="322272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15-1830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tting a Lid Back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ning a Can of Wor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ndora’s Bo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lippery slop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king the Fir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ttp://www.cartoonstock.com/newscartoons/cartoonists/tmc/lowres/tmcn813l.jpg"/>
          <p:cNvPicPr/>
          <p:nvPr/>
        </p:nvPicPr>
        <p:blipFill>
          <a:blip r:embed="rId1"/>
          <a:stretch/>
        </p:blipFill>
        <p:spPr>
          <a:xfrm>
            <a:off x="5943600" y="0"/>
            <a:ext cx="2886120" cy="3365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historyhome.co.uk/pict2/liberty.jpg"/>
          <p:cNvPicPr/>
          <p:nvPr/>
        </p:nvPicPr>
        <p:blipFill>
          <a:blip r:embed="rId2"/>
          <a:stretch/>
        </p:blipFill>
        <p:spPr>
          <a:xfrm>
            <a:off x="380880" y="114480"/>
            <a:ext cx="411480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52280" y="182520"/>
            <a:ext cx="8991720" cy="152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acaee"/>
                </a:solidFill>
                <a:latin typeface="BlackChancery"/>
              </a:rPr>
              <a:t>The Germanic Confederation, 1815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map-German Confederation-1815"/>
          <p:cNvPicPr/>
          <p:nvPr/>
        </p:nvPicPr>
        <p:blipFill>
          <a:blip r:embed="rId1"/>
          <a:stretch/>
        </p:blipFill>
        <p:spPr>
          <a:xfrm>
            <a:off x="2328840" y="990720"/>
            <a:ext cx="4834080" cy="5638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map-Europe after the Congress of Vienna, 1815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38080" y="762120"/>
            <a:ext cx="7570800" cy="5867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4" name="Text Box 2"/>
          <p:cNvSpPr/>
          <p:nvPr/>
        </p:nvSpPr>
        <p:spPr>
          <a:xfrm>
            <a:off x="152280" y="76320"/>
            <a:ext cx="8458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caee"/>
                </a:solidFill>
                <a:latin typeface="BlackChancery"/>
              </a:rPr>
              <a:t>Europe After the Congress of Vien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>
            <a:hlinkClick r:id="rId2" action="ppaction://hlinksldjump"/>
          </p:cNvPr>
          <p:cNvSpPr/>
          <p:nvPr/>
        </p:nvSpPr>
        <p:spPr>
          <a:xfrm>
            <a:off x="85345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louis18"/>
          <p:cNvPicPr/>
          <p:nvPr/>
        </p:nvPicPr>
        <p:blipFill>
          <a:blip r:embed="rId1"/>
          <a:stretch/>
        </p:blipFill>
        <p:spPr>
          <a:xfrm>
            <a:off x="685800" y="685800"/>
            <a:ext cx="4087800" cy="5407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81480" y="685800"/>
            <a:ext cx="32004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uis XVIII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ing of France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814-1824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hamber of Peer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hamber of Deputi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franchis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26" descr="Alexander_1"/>
          <p:cNvPicPr/>
          <p:nvPr/>
        </p:nvPicPr>
        <p:blipFill>
          <a:blip r:embed="rId1"/>
          <a:stretch/>
        </p:blipFill>
        <p:spPr>
          <a:xfrm>
            <a:off x="609480" y="609480"/>
            <a:ext cx="448164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638680" y="609480"/>
            <a:ext cx="281952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xander I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sar of Russia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801-18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c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://theopenutopia.org/wp-content/uploads/2011/01/art25.jpg"/>
          <p:cNvPicPr/>
          <p:nvPr/>
        </p:nvPicPr>
        <p:blipFill>
          <a:blip r:embed="rId3"/>
          <a:stretch/>
        </p:blipFill>
        <p:spPr>
          <a:xfrm>
            <a:off x="838080" y="2209680"/>
            <a:ext cx="278136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www.socialmediaphilanthropy.com/wp-content/uploads/2010/09/angry-mob2.jpg"/>
          <p:cNvPicPr/>
          <p:nvPr/>
        </p:nvPicPr>
        <p:blipFill>
          <a:blip r:embed="rId4"/>
          <a:stretch/>
        </p:blipFill>
        <p:spPr>
          <a:xfrm>
            <a:off x="4114800" y="1614600"/>
            <a:ext cx="476244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2.bp.blogspot.com/-VItIUN_uZgM/TfnitsmOgeI/AAAAAAAAAFA/rN9yBIFVLEU/s1600/constitutional+government+cartoon.jpg"/>
          <p:cNvPicPr/>
          <p:nvPr/>
        </p:nvPicPr>
        <p:blipFill>
          <a:blip r:embed="rId2"/>
          <a:stretch/>
        </p:blipFill>
        <p:spPr>
          <a:xfrm>
            <a:off x="685800" y="2443320"/>
            <a:ext cx="3809880" cy="3190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www.megalifesuccess.com/wp-content/uploads/2010/05/Laissez-Faire.jpg"/>
          <p:cNvPicPr/>
          <p:nvPr/>
        </p:nvPicPr>
        <p:blipFill>
          <a:blip r:embed="rId3"/>
          <a:stretch/>
        </p:blipFill>
        <p:spPr>
          <a:xfrm>
            <a:off x="4724280" y="17226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http://4.bp.blogspot.com/_s57ISZAyJXI/RsRcSJLR8TI/AAAAAAAAAQs/BOPvK_G1C3w/s400/mike0808.gif"/>
          <p:cNvPicPr/>
          <p:nvPr/>
        </p:nvPicPr>
        <p:blipFill>
          <a:blip r:embed="rId1"/>
          <a:stretch/>
        </p:blipFill>
        <p:spPr>
          <a:xfrm>
            <a:off x="1066680" y="1676520"/>
            <a:ext cx="5234040" cy="3905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rv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038120" y="3047760"/>
            <a:ext cx="1428840" cy="47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i-cdn.apartmenttherapy.com/uimages/chicago/flintstones110210.jpg"/>
          <p:cNvPicPr/>
          <p:nvPr/>
        </p:nvPicPr>
        <p:blipFill>
          <a:blip r:embed="rId3"/>
          <a:stretch/>
        </p:blipFill>
        <p:spPr>
          <a:xfrm>
            <a:off x="685800" y="2362320"/>
            <a:ext cx="381492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batr.org/sitebuildercontent/sitebuilderpictures/france.jpg"/>
          <p:cNvPicPr/>
          <p:nvPr/>
        </p:nvPicPr>
        <p:blipFill>
          <a:blip r:embed="rId4"/>
          <a:stretch/>
        </p:blipFill>
        <p:spPr>
          <a:xfrm>
            <a:off x="4876920" y="3200400"/>
            <a:ext cx="3547800" cy="2752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http://cdn.whatculture.com/wp-content/uploads/2010/10/doc-and-marty.jpg"/>
          <p:cNvPicPr/>
          <p:nvPr/>
        </p:nvPicPr>
        <p:blipFill>
          <a:blip r:embed="rId5"/>
          <a:stretch/>
        </p:blipFill>
        <p:spPr>
          <a:xfrm>
            <a:off x="6396120" y="457200"/>
            <a:ext cx="21510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www.zum.de/whkmla/histatlas/samerica/sam1830.gif"/>
          <p:cNvPicPr/>
          <p:nvPr/>
        </p:nvPicPr>
        <p:blipFill>
          <a:blip r:embed="rId1"/>
          <a:stretch/>
        </p:blipFill>
        <p:spPr>
          <a:xfrm>
            <a:off x="457200" y="762120"/>
            <a:ext cx="5970600" cy="48006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7280" y="609120"/>
            <a:ext cx="289584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nroe Doctrine &amp; Britannia Rules the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ash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ain- Liberalism/Radical/Reac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-Nationalism- Austr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in-Liberalism- 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-Reactionary- Louis XVIII/Charles X- Ultraroya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 Confederation-Carls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-Decembr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gium-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- Romantic Ottoman Stru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ongVienna"/>
          <p:cNvPicPr/>
          <p:nvPr/>
        </p:nvPicPr>
        <p:blipFill>
          <a:blip r:embed="rId1"/>
          <a:stretch/>
        </p:blipFill>
        <p:spPr>
          <a:xfrm>
            <a:off x="990720" y="990720"/>
            <a:ext cx="7010280" cy="4751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berations in Vi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ITALY ROUND 1820"/>
          <p:cNvPicPr/>
          <p:nvPr/>
        </p:nvPicPr>
        <p:blipFill>
          <a:blip r:embed="rId1"/>
          <a:stretch/>
        </p:blipFill>
        <p:spPr>
          <a:xfrm>
            <a:off x="0" y="0"/>
            <a:ext cx="5133960" cy="8305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05520" y="60948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risings in Ita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1820s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20: Naples &amp; Palerm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s. the Bourbon dynasty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21: Tur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s. the ruling house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edmont-Sardinia)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any mo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64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use-&gt;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380520"/>
            <a:ext cx="7543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Prices Rise(Corn Laws 1815-&gt;Peterloo-&gt;6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http://www.newmanchesterwalks.com/wp-content/uploads/2010/08/Peterloo-plaque.jpg"/>
          <p:cNvPicPr/>
          <p:nvPr/>
        </p:nvPicPr>
        <p:blipFill>
          <a:blip r:embed="rId1"/>
          <a:stretch/>
        </p:blipFill>
        <p:spPr>
          <a:xfrm>
            <a:off x="5638680" y="1219320"/>
            <a:ext cx="2551320" cy="2392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://www.xtimeline.com/__UserPic_Large/40139/evt091209135400280.jpg"/>
          <p:cNvPicPr/>
          <p:nvPr/>
        </p:nvPicPr>
        <p:blipFill>
          <a:blip r:embed="rId2"/>
          <a:stretch/>
        </p:blipFill>
        <p:spPr>
          <a:xfrm>
            <a:off x="1730520" y="4038480"/>
            <a:ext cx="4954320" cy="2590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http://www.nwdailymarker.com/wp-content/uploads/2011/08/Censorship.jpg"/>
          <p:cNvPicPr/>
          <p:nvPr/>
        </p:nvPicPr>
        <p:blipFill>
          <a:blip r:embed="rId3"/>
          <a:stretch/>
        </p:blipFill>
        <p:spPr>
          <a:xfrm>
            <a:off x="1057320" y="1600200"/>
            <a:ext cx="26766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00240" y="6094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gène Delacroix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eece on the Ruin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 Missolongh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18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delacroix_greece"/>
          <p:cNvPicPr/>
          <p:nvPr/>
        </p:nvPicPr>
        <p:blipFill>
          <a:blip r:embed="rId1"/>
          <a:stretch/>
        </p:blipFill>
        <p:spPr>
          <a:xfrm>
            <a:off x="0" y="0"/>
            <a:ext cx="477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byronphillips"/>
          <p:cNvPicPr/>
          <p:nvPr/>
        </p:nvPicPr>
        <p:blipFill>
          <a:blip r:embed="rId1"/>
          <a:stretch/>
        </p:blipFill>
        <p:spPr>
          <a:xfrm>
            <a:off x="609480" y="609480"/>
            <a:ext cx="4740480" cy="5776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19560" y="1980720"/>
            <a:ext cx="2514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rge Gordo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k.a. Lord Byr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788-1824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Ode on a Grecian Urn”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ou still unravish'd bride of quietness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ou foster-child of silence and slow tim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lvan historian, who canst thus expres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lowery tale more sweetly than our rhyme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leaf-fring'd legend haunt about thy shap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deities or mortals, or of both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empe or the dales of Arcady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men or gods are these? What maidens loth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mad pursuit? What struggle to escape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pipes and timbrels? What wild ecstasy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John Keat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e2525"/>
          <p:cNvPicPr/>
          <p:nvPr/>
        </p:nvPicPr>
        <p:blipFill>
          <a:blip r:embed="rId1"/>
          <a:stretch/>
        </p:blipFill>
        <p:spPr>
          <a:xfrm>
            <a:off x="1676520" y="1447920"/>
            <a:ext cx="5943600" cy="4263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ingdom of Greece (est. 18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26" descr="wartburg"/>
          <p:cNvPicPr/>
          <p:nvPr/>
        </p:nvPicPr>
        <p:blipFill>
          <a:blip r:embed="rId1"/>
          <a:stretch/>
        </p:blipFill>
        <p:spPr>
          <a:xfrm>
            <a:off x="228600" y="228600"/>
            <a:ext cx="4064040" cy="3720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27" descr="wartburgfest 2"/>
          <p:cNvPicPr/>
          <p:nvPr/>
        </p:nvPicPr>
        <p:blipFill>
          <a:blip r:embed="rId2"/>
          <a:stretch/>
        </p:blipFill>
        <p:spPr>
          <a:xfrm>
            <a:off x="4495680" y="228600"/>
            <a:ext cx="4496040" cy="3735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149400" y="4176360"/>
            <a:ext cx="626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artburg Festival of German fraternit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ctober 1817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Association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http://www.uncp.edu/home/rwb/chartist.jpg"/>
          <p:cNvPicPr/>
          <p:nvPr/>
        </p:nvPicPr>
        <p:blipFill>
          <a:blip r:embed="rId3"/>
          <a:stretch/>
        </p:blipFill>
        <p:spPr>
          <a:xfrm>
            <a:off x="6111720" y="4114800"/>
            <a:ext cx="28479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943600" y="609480"/>
            <a:ext cx="26668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rlsbad Decre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rl Sand’s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http://www.preussen-chronik.de/bilder/583_Die_Hinrichtung_des_Karl_Ludwig_Sand.jpeg"/>
          <p:cNvPicPr/>
          <p:nvPr/>
        </p:nvPicPr>
        <p:blipFill>
          <a:blip r:embed="rId1"/>
          <a:stretch/>
        </p:blipFill>
        <p:spPr>
          <a:xfrm>
            <a:off x="685800" y="1841400"/>
            <a:ext cx="464832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embrist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prising (Dec. 14, 18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Protest_14_12_1825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nicholas"/>
          <p:cNvPicPr/>
          <p:nvPr/>
        </p:nvPicPr>
        <p:blipFill>
          <a:blip r:embed="rId1"/>
          <a:stretch/>
        </p:blipFill>
        <p:spPr>
          <a:xfrm>
            <a:off x="609480" y="609480"/>
            <a:ext cx="4191120" cy="5678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81480" y="609480"/>
            <a:ext cx="32767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holas I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sar of Russia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825-18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harles10france"/>
          <p:cNvPicPr/>
          <p:nvPr/>
        </p:nvPicPr>
        <p:blipFill>
          <a:blip r:embed="rId1"/>
          <a:stretch/>
        </p:blipFill>
        <p:spPr>
          <a:xfrm>
            <a:off x="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81480" y="609120"/>
            <a:ext cx="32767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X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ing of France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824-1830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pensation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2280" y="349200"/>
            <a:ext cx="8839440" cy="87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acaee"/>
                </a:solidFill>
                <a:latin typeface="BlackChancery"/>
              </a:rPr>
              <a:t>Main Objective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09480" y="1828800"/>
            <a:ext cx="8001000" cy="4276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ad20c"/>
              </a:buClr>
              <a:buFont typeface="Monarchbat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ts job was to undo everything that Napoléon had don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-401400">
              <a:lnSpc>
                <a:spcPct val="100000"/>
              </a:lnSpc>
              <a:spcBef>
                <a:spcPts val="1624"/>
              </a:spcBef>
              <a:buClr>
                <a:srgbClr val="ff9f9f"/>
              </a:buClr>
              <a:buFont typeface="DavysOtherDingbats"/>
              <a:buChar char="V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duce France to its old boundarie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her frontiers were pushed back to 1790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31760" indent="-401400">
              <a:lnSpc>
                <a:spcPct val="100000"/>
              </a:lnSpc>
              <a:spcBef>
                <a:spcPts val="1624"/>
              </a:spcBef>
              <a:buClr>
                <a:srgbClr val="ff9f9f"/>
              </a:buClr>
              <a:buFont typeface="DavysOtherDingbats"/>
              <a:buChar char="V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store as many of the old monarchies as possible that had lost their thrones during the Napoléonic e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ad20c"/>
              </a:buClr>
              <a:buFont typeface="Monarchbat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pported the resolution: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here is always an alternative to conflic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Delacroix_liberty"/>
          <p:cNvPicPr/>
          <p:nvPr/>
        </p:nvPicPr>
        <p:blipFill>
          <a:blip r:embed="rId1"/>
          <a:stretch/>
        </p:blipFill>
        <p:spPr>
          <a:xfrm>
            <a:off x="838080" y="681120"/>
            <a:ext cx="7391520" cy="6176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gène Delacroix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berty Leading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wappers01"/>
          <p:cNvPicPr/>
          <p:nvPr/>
        </p:nvPicPr>
        <p:blipFill>
          <a:blip r:embed="rId1"/>
          <a:stretch/>
        </p:blipFill>
        <p:spPr>
          <a:xfrm>
            <a:off x="955800" y="984240"/>
            <a:ext cx="7230960" cy="4889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 in Brussels, 18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image002-1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sh uprising against Russia (Nov. 1830 - Sept. 18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warszawa"/>
          <p:cNvPicPr/>
          <p:nvPr/>
        </p:nvPicPr>
        <p:blipFill>
          <a:blip r:embed="rId1"/>
          <a:stretch/>
        </p:blipFill>
        <p:spPr>
          <a:xfrm>
            <a:off x="3886200" y="1981080"/>
            <a:ext cx="4495680" cy="3416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litografia"/>
          <p:cNvPicPr/>
          <p:nvPr/>
        </p:nvPicPr>
        <p:blipFill>
          <a:blip r:embed="rId2"/>
          <a:stretch/>
        </p:blipFill>
        <p:spPr>
          <a:xfrm>
            <a:off x="685800" y="1981080"/>
            <a:ext cx="2575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30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s, Suppression, Occupation, Nationalism, Liberalism, Radicalism, Reactionary, Romanticis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es Europe st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metternich_youngjpg"/>
          <p:cNvPicPr/>
          <p:nvPr/>
        </p:nvPicPr>
        <p:blipFill>
          <a:blip r:embed="rId1"/>
          <a:stretch/>
        </p:blipFill>
        <p:spPr>
          <a:xfrm>
            <a:off x="609480" y="533520"/>
            <a:ext cx="4338720" cy="5742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0" y="609480"/>
            <a:ext cx="41148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mens von Metternich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eign minister of Austria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809-18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talleyrand_malkovich"/>
          <p:cNvPicPr/>
          <p:nvPr/>
        </p:nvPicPr>
        <p:blipFill>
          <a:blip r:embed="rId1"/>
          <a:stretch/>
        </p:blipFill>
        <p:spPr>
          <a:xfrm>
            <a:off x="4419720" y="533520"/>
            <a:ext cx="3943080" cy="347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talley2"/>
          <p:cNvPicPr/>
          <p:nvPr/>
        </p:nvPicPr>
        <p:blipFill>
          <a:blip r:embed="rId2"/>
          <a:stretch/>
        </p:blipFill>
        <p:spPr>
          <a:xfrm>
            <a:off x="685800" y="533520"/>
            <a:ext cx="3021120" cy="35049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4193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Maurice de Talleyrand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eign Minister of Fra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edly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rtrayed by John Malkovi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Tallyrand"/>
          <p:cNvPicPr/>
          <p:nvPr/>
        </p:nvPicPr>
        <p:blipFill>
          <a:blip r:embed="rId3"/>
          <a:stretch/>
        </p:blipFill>
        <p:spPr>
          <a:xfrm>
            <a:off x="152280" y="4267080"/>
            <a:ext cx="1865520" cy="25909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2280" y="228600"/>
            <a:ext cx="8839440" cy="15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acaee"/>
                </a:solidFill>
                <a:latin typeface="BlackChancery"/>
              </a:rPr>
              <a:t>Key Principles Established </a:t>
            </a:r>
            <a:br>
              <a:rPr sz="4900"/>
            </a:br>
            <a:r>
              <a:rPr b="0" lang="en-US" sz="4900" spc="-1" strike="noStrike">
                <a:solidFill>
                  <a:srgbClr val="cacaee"/>
                </a:solidFill>
                <a:latin typeface="BlackChancery"/>
              </a:rPr>
              <a:t>at Vienn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514600" y="2133720"/>
            <a:ext cx="4800600" cy="218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633240">
              <a:lnSpc>
                <a:spcPct val="100000"/>
              </a:lnSpc>
              <a:spcBef>
                <a:spcPts val="2126"/>
              </a:spcBef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Balance of Pow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spcBef>
                <a:spcPts val="2126"/>
              </a:spcBef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Legitimac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spcBef>
                <a:spcPts val="2126"/>
              </a:spcBef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Compens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143000" y="4724280"/>
            <a:ext cx="7620120" cy="188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ad20c"/>
              </a:buClr>
              <a:buFont typeface="Monarchbat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Coalition forces would occupy France for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3-5 yea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624"/>
              </a:spcBef>
              <a:buClr>
                <a:srgbClr val="fad20c"/>
              </a:buClr>
              <a:buFont typeface="Monarchbats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rance would have to pay an indemnity of 700,000,000 franc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1830240"/>
            <a:ext cx="81532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France </a:t>
            </a:r>
            <a:r>
              <a:rPr b="0" lang="en-US" sz="2600" spc="-1" strike="noStrike">
                <a:solidFill>
                  <a:srgbClr val="60606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 territory -&gt;Napolé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Russia</a:t>
            </a:r>
            <a:r>
              <a:rPr b="0" lang="en-US" sz="2600" spc="-1" strike="noStrike">
                <a:solidFill>
                  <a:srgbClr val="606060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 -&gt;Duchy of Warsaw (Poland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Prussia</a:t>
            </a:r>
            <a:r>
              <a:rPr b="0" lang="en-US" sz="2600" spc="-1" strike="noStrike">
                <a:solidFill>
                  <a:srgbClr val="606060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 -&gt;half of Saxony, parts of Poland, and other German territo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A </a:t>
            </a:r>
            <a:r>
              <a:rPr b="1" lang="en-US" sz="2600" spc="-1" strike="noStrike">
                <a:solidFill>
                  <a:srgbClr val="606060"/>
                </a:solidFill>
                <a:latin typeface="Comic Sans MS"/>
              </a:rPr>
              <a:t>Germanic Confederation</a:t>
            </a: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 of 30+ states (including Prussia) &lt;-previous 300, under Austrian rul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Austria</a:t>
            </a:r>
            <a:r>
              <a:rPr b="0" lang="en-US" sz="2600" spc="-1" strike="noStrike">
                <a:solidFill>
                  <a:srgbClr val="606060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 -&gt; recovers land, plus more in Germany and Ital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The House of Orange</a:t>
            </a:r>
            <a:r>
              <a:rPr b="0" lang="en-US" sz="2600" spc="-1" strike="noStrike">
                <a:solidFill>
                  <a:srgbClr val="606060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606060"/>
                </a:solidFill>
                <a:latin typeface="Comic Sans MS"/>
              </a:rPr>
              <a:t> -&gt;Dutch Republic and the Austrian Netherlands to ru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2280" y="152280"/>
            <a:ext cx="8839440" cy="8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acaee"/>
                </a:solidFill>
                <a:latin typeface="BlackChancery"/>
              </a:rPr>
              <a:t>Changes Made at Vienna (1)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ongress of Vienna  doc - Jun 9 1815"/>
          <p:cNvPicPr/>
          <p:nvPr/>
        </p:nvPicPr>
        <p:blipFill>
          <a:blip r:embed="rId1"/>
          <a:stretch/>
        </p:blipFill>
        <p:spPr>
          <a:xfrm>
            <a:off x="6705720" y="914400"/>
            <a:ext cx="2133360" cy="1830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Tallyrand"/>
          <p:cNvPicPr/>
          <p:nvPr/>
        </p:nvPicPr>
        <p:blipFill>
          <a:blip r:embed="rId2"/>
          <a:stretch/>
        </p:blipFill>
        <p:spPr>
          <a:xfrm>
            <a:off x="7478640" y="3048120"/>
            <a:ext cx="1317600" cy="18288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2280" y="76320"/>
            <a:ext cx="8839440" cy="8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acaee"/>
                </a:solidFill>
                <a:latin typeface="BlackChancery"/>
              </a:rPr>
              <a:t>Changes Made at Vienna (2)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19040" y="1371600"/>
            <a:ext cx="8305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c8c93"/>
                </a:solidFill>
                <a:latin typeface="Comic Sans MS"/>
              </a:rPr>
              <a:t>Sweden gains Norway loses Fin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c8c93"/>
                </a:solidFill>
                <a:latin typeface="Comic Sans MS"/>
              </a:rPr>
              <a:t>Britain gets Cape Colony, South Africa (see Boer War 1898), and other colonies in Africa and As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c8c93"/>
                </a:solidFill>
                <a:latin typeface="Comic Sans MS"/>
              </a:rPr>
              <a:t>Sardinia -&gt;Piedmont, Nice, Savoy, and Geno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c8c93"/>
                </a:solidFill>
                <a:latin typeface="Comic Sans MS"/>
              </a:rPr>
              <a:t>Bourbon Ferdinand I restored -&gt; Two Sicil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c8c93"/>
                </a:solidFill>
                <a:latin typeface="Comic Sans MS"/>
              </a:rPr>
              <a:t>Slave trade condemned (at British urging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f9f"/>
              </a:buClr>
              <a:buFont typeface="DavysOtherDingbat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c8c93"/>
                </a:solidFill>
                <a:latin typeface="Comic Sans MS"/>
              </a:rPr>
              <a:t>Freedom of navigation guaranteed for many riv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ur1815"/>
          <p:cNvPicPr/>
          <p:nvPr/>
        </p:nvPicPr>
        <p:blipFill>
          <a:blip r:embed="rId1"/>
          <a:stretch/>
        </p:blipFill>
        <p:spPr>
          <a:xfrm>
            <a:off x="0" y="0"/>
            <a:ext cx="98362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23:15:23Z</dcterms:created>
  <dc:creator>William Gray</dc:creator>
  <dc:description/>
  <dc:language>en-US</dc:language>
  <cp:lastModifiedBy>Local User</cp:lastModifiedBy>
  <cp:lastPrinted>2006-10-11T15:39:59Z</cp:lastPrinted>
  <dcterms:modified xsi:type="dcterms:W3CDTF">2011-12-19T19:23:41Z</dcterms:modified>
  <cp:revision>71</cp:revision>
  <dc:subject/>
  <dc:title>Putting a Lid Back on Europe, 1815-1830 History 104 / February 23, 2005  I. The “Concert of Europe” II. Two ideologies threatening to the status quo III. The power edifice rumbles: the revolutions of 1830</dc:title>
</cp:coreProperties>
</file>